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0891-33E1-4A47-AC9A-75AC00F2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89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3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977640"/>
            <a:ext cx="7923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54DE-3D03-4C25-A597-BC1F0331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89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664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5520" y="1828800"/>
            <a:ext cx="38664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977640"/>
            <a:ext cx="38664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5520" y="3977640"/>
            <a:ext cx="38664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55D8-8C3C-4DBB-A70A-877386D1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89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255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200" y="1828800"/>
            <a:ext cx="255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3320" y="1828800"/>
            <a:ext cx="255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977640"/>
            <a:ext cx="255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200" y="3977640"/>
            <a:ext cx="255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3320" y="3977640"/>
            <a:ext cx="255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4836-19A2-4A53-AFCC-F8F3D667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89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828800"/>
            <a:ext cx="79232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11FF-5666-48E0-ABD9-B37AD7B2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89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32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D2F8-7C2A-4D1C-AE45-3C198227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89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664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5520" y="1828800"/>
            <a:ext cx="38664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7F8E-BA2F-4A62-AB60-B69AF1A0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89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EE0F-6207-47B0-A0D6-22E85AAC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389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3C02-FE45-40AC-9F87-EF463428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89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664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5520" y="1828800"/>
            <a:ext cx="38664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977640"/>
            <a:ext cx="38664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4C04-FA9F-4611-8C64-672F9CC9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89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664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5520" y="1828800"/>
            <a:ext cx="38664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5520" y="3977640"/>
            <a:ext cx="38664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2873-C56D-4804-BC72-4EB72FAA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89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664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5520" y="1828800"/>
            <a:ext cx="38664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977640"/>
            <a:ext cx="7923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BE84-12B1-4976-9B88-D5268357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89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828800"/>
            <a:ext cx="79232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10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102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BDB061-31CD-4D74-97E6-2850265813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28600" y="60948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04920" y="1676520"/>
            <a:ext cx="8686800" cy="7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f14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91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Last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bsurface scattering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 University of Wiscons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26/03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91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endering with the BSSRD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4832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ndering has to take into accou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fficient integration of the BSSRDF including importance samp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ngle scattering for arbitrary geo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ffuse scattering for arbitrary geo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exture on the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a distribution ray-tr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ach time you hit a surface point,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have to sample incoming points,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o estimate integ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29200" y="3809880"/>
            <a:ext cx="3886200" cy="16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 University of Wiscons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26/03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91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ampling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single scattering terms, sample points along the refracted outgoing 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st shadow ray to light to find out incoming rad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ush this through single scattering equation to get outgo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ke distant light approximation to ease compu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diffuse scattering term, sample points around the outgo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place the virtual lights and evaluate th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ust be careful to put virtual lights in appropriate pl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exture, use parameters from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or diffuse, and combination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or single scat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 University of Wiscons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26/03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91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3665520" cy="4888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038480" y="1371600"/>
            <a:ext cx="4881600" cy="488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 University of Wiscons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26/03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91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More 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 University of Wiscons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26/03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91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an’t Escape the Bun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162560" cy="35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 University of Wiscons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26/03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91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ky Illum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ky is obviously an important source of illu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tmosphere is an important participating medium over large distances (hundreds of me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ople use atmospheric effects to judge distances (stereo and disparity effects are useless at large distan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ree mod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I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ez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etham, Shirley and Smits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 University of Wiscons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26/03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91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tmospheric Phenome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e to solar illumination and scattering in the 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molecules are modeled by Rayleigh scat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ptical extinction coefficient varies with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phenomena does this explai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attering due to larger particles is modeled with Mie scat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cattering depends less on wavelength, so what color is haz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bidity is a useful measurement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=(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)/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vertical optical thickness of molecular atmo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vertical optical thickness of haze atmo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 University of Wiscons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26/03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91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imulation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attempt to simulate the scattering in the atmosphere to produce 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ery expensive for practical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t work with any atmospheric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 University of Wiscons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26/03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91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oordina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486400" cy="443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 University of Wiscons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26/03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91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IE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327636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icts luminance of a point in the sky for a particular sun position on a clear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color space do we do sky computations i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the luminance of the zenith, which can be found in tables or formulas that incorporate sun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formula is used i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adian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mong othe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47920" y="2057400"/>
                <a:ext cx="64767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Y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γ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γ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</m:den>
                                </m:f>
                                <m:r>
                                  <m:t xml:space="preserve">θ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θ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 University of Wiscons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26/03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91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o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subsurface scat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ky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6719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 University of Wiscons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26/03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91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IE Cloud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completely overcast skies (thick clou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971800" y="2590920"/>
                <a:ext cx="26128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Y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cos</m:t>
                            </m:r>
                            <m:r>
                              <m:t xml:space="preserve">θ</m:t>
                            </m:r>
                          </m:e>
                        </m: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 University of Wiscons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26/03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91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erez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ve parame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: darkening or brightening of the horiz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: luminance gradient near the horiz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: relative intensity of the circum-solar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: width of the circum-solar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: relative backscattered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447920" y="4343400"/>
                <a:ext cx="57369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θ,γ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A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θ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C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Dγ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+E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γ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Y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F</m:t>
                        </m:r>
                        <m:f>
                          <m:fPr>
                            <m:type m:val="lin"/>
                          </m:fPr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θ,γ</m:t>
                                </m:r>
                              </m:e>
                            </m:d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 University of Wiscons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26/03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91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erial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hange in color due to passage of light through the 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s been modeling in various w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g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ll scattering sim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ake ambient illu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ngle scattering integrated along a line from source to vie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4029120" cy="279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 University of Wiscons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26/03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91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reetham, Shirley and Sm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actical model (or so they clai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 sun with NASA data and attenuation along path to vie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 skylight with Perez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un lots of simulation of particle scat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t parameters for Perez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so fit chromaticit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 aerial perspective with simplifications to scattering integ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 University of Wiscons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26/03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91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 University of Wiscons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26/03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91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urbid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 University of Wiscons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26/03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91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ard’s Model vs Preeth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 University of Wiscons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26/03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91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SSRD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idirectional surface scattering reflectance distribution function,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lates the outgoing radiance at one point to the incident flux at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RDF makes the assumption that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get the total radiance leaving a point, integrate over the surface and the incoming dir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pends on the sub-surface scattering of the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600200" y="2666880"/>
                <a:ext cx="6172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=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dΦ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 University of Wiscons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26/0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91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ractic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nn Jensen, Marschner, Levoy and Hanrahan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ndles non-isotropic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 not require extensive Monte-Carlo ray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ust a modified version of distribution ray-tra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roximation based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ultiple bounce scattering – diffuse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ngle bounce scattering – directional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295280" y="4800600"/>
                <a:ext cx="6678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S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+S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 University of Wiscons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26/03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4120" y="2362320"/>
            <a:ext cx="3124080" cy="1295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91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ingle Scattering Te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sume one one scattering event on the path from incoming to outgoing 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get outgoing radiance, integrate along refracted 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2362320"/>
            <a:ext cx="3124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17524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2362320"/>
            <a:ext cx="76212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477120" y="2360160"/>
            <a:ext cx="761760" cy="1298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238880" y="1751040"/>
            <a:ext cx="68580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40240" y="1600200"/>
            <a:ext cx="4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781040" y="160020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00920" y="183528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18920" y="18288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24480" y="2362320"/>
            <a:ext cx="45720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779880" y="2362320"/>
            <a:ext cx="46044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12440" y="25909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30481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8520" y="22860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62920" y="22860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38080" y="3809880"/>
                <a:ext cx="769644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sSubSup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=σ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  <m:r>
                                      <m:t xml:space="preserve">,</m:t>
                                    </m:r>
                                    <m:sSub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nary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c</m:t>
                                        </m:r>
                                      </m:sub>
                                    </m:sSub>
                                    <m:r>
                                      <m:t xml:space="preserve">s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sd </m:t>
                                </m:r>
                              </m:e>
                            </m:nary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 University of Wiscons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26/03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91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ingle Scattering Te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53337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(1)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defined by this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85800" y="1676520"/>
                <a:ext cx="7958160" cy="37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sSubSup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=σ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  <m:r>
                                      <m:t xml:space="preserve">,</m:t>
                                    </m:r>
                                    <m:sSub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nary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c</m:t>
                                        </m:r>
                                      </m:sub>
                                    </m:sSub>
                                    <m:r>
                                      <m:t xml:space="preserve">s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sd </m:t>
                                </m:r>
                              </m:e>
                            </m:nary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 University of Wiscons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26/03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91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Multiple Scatt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servation: multiple scattering tends to look 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ach scattering event tends to blur the distribution of radiance, until it looks 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flat, semi-infinite surfaces, the effect of multiple scattering can be approximated with two virtual light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ne inside the 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ne “negative” light outside the 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iffusion approx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971800" cy="205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 University of Wiscons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26/03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91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Diffuse Scattering Ter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the flav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39621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equation uses the Fresnel, coefficients to scale the incoming radiance, coefficients for transmission and adsorption, and variables for the location of the virtual light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447920" y="1828800"/>
                <a:ext cx="6172200" cy="17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π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sup>
                                </m:sSup>
                              </m:num>
                              <m:den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bSup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z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v</m:t>
                                        </m:r>
                                      </m:sub>
                                    </m:sSub>
                                  </m:sup>
                                </m:sSup>
                              </m:num>
                              <m:den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;x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η,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e/>
                          <m:e>
                            <m:r>
                              <m:t xml:space="preserve">i</m:t>
                            </m:r>
                          </m:e>
                        </m:d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η,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e/>
                          <m:e>
                            <m:r>
                              <m:t xml:space="preserve">o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 University of Wiscons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26/03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391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itting Parame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495288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4 material dependent parameters: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ems surprising, but it’s tru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ach parameter, except 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depends on wavelength, but just use RG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sure by taking a high dynamic range image of a sample piece illuminated by a focus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gh dynamic range imagery will be covered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219320" y="1828800"/>
                <a:ext cx="667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S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+S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656320" y="2362320"/>
            <a:ext cx="289872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 University of Wiscons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26/03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phen Chenney</dc:creator>
  <dc:description/>
  <dc:language>en-US</dc:language>
  <cp:lastModifiedBy>Stephen Chenney</cp:lastModifiedBy>
  <cp:revision>0</cp:revision>
  <dc:subject/>
  <dc:title>Subsurface models, sky models, tone reproduction</dc:title>
</cp:coreProperties>
</file>